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7FE-CC1E-45A8-8C03-7B7C6036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721-BDEB-4E5E-9EB3-F171A57E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2BE-AF97-4E4D-9021-CA85B32B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E36-E40E-426D-A554-2498C078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7636-AADC-4C41-A2FF-F93E385E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9686-E952-4CC2-8DCD-73DB9285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D25C-F09B-4076-9095-038FBE9B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22C2-94AD-454E-9C8F-CF7A8637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DA3F-812A-4E65-96C7-44D1106E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EEF8-679E-4065-8218-11DB2D9D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1336-CF5E-497A-AB44-2FCC6DBB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777-CDB3-4B04-A66B-957646B3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BF80-B03F-463F-B89F-3717D44D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CDAE-43E3-4BD4-B5BC-23B0B1DE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49EB-3B7B-4EE6-ADCF-C207B970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B1DB-02B4-43BE-A824-655A5136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8352-1C10-47DB-BD48-BDEF6B90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8BD-6906-45AE-8F4C-50B3E8F0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D5A-61A7-46F7-A906-F8737EEB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DE2-569B-42B4-A27A-0897C5D2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FEB-9912-48CD-8C0E-6563125F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5A9-9D8E-4B9F-9D76-2B5135F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575-0EEF-4B12-B472-DFABCD57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956-E603-4EEA-8F70-7ECF2616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6853-7400-4982-A10D-5F99614917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557C-ED9A-45FC-8069-10932E2EAF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и система обозна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Сед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 X для приборов с обратной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ярностью (основание корпуса - катод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ос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сло, обозначающее класс по по­вторяющемуся импульсному напряжению в закры­том состоянии (сотни вольт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Дев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а цифр, обозначающая соче­тание классификационных параметров: для низкочастотных приборов (аббревиатура «зс» означает запертое состояние, а аббревиатура «кр» критическое значение);  и  для высо­кочастотных прибор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 для быстродействующих приборов; для симметричных ти­ристоров (симисторов) и тиристоров-диодов вместо (du3C/dt)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 классификационным параметром являет­ся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ОПТОЭЛЕКТРОННЫЕ ПРИБОР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оэлектронных при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тоэлектронными называют приборы, которые чувствительны к электромагнитному излучению в видимой, инфракрасной и ультрафиолетовой областях, а также при­боры, производящие или использующие такое изл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Излучающий диод (светодиод)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ающий диод, работающий в видимом диапазоне волн, часто называют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излучающим, или светодио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устройство, характеристики, параметры и систему обозначений излучающих ди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тройств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хематическое изображение структур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ающего диода представлено на рис. 1.120, а; его условное графическое обозначение - на рис. 1.120, 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ение возникает при протекании прямого тока диода в результате рекомбинации электронов и дырок в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и р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ерехода и в областях, примыкающих к указанной области. При рекомбинации излучаются фот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и и параметры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излучающих диодов, работающих в видимом диапазоне (длина волны от 0,38 до 0,78 мкм, частота около, но меньше 1015 Гц), ши­роко используются следующие характери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403280" y="1700280"/>
          <a:ext cx="629604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29604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635280" y="537372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злучающих диодов, работающих не в видимом диапазоне, используют характеристики, отражающие за­висимость мощности излуч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 тока диод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зим яркостную характеристику для светоизлучающего диода тип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2А (рис. 1.121). Цвет свечения это­го диода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– красны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63640" y="1628640"/>
          <a:ext cx="537840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37840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419640" y="5445000"/>
            <a:ext cx="172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м график зависимости силы света от тока для светоизлучающего диода типа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6A (рис. 1.122) (цвет свечения - крас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м зону возможных положений (рис. 1.123) графика зависимости мощности излучения от тока для излучающего диода типа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19A, работающего в инфра­красном диапазоне (длина волны 0,93...0,96 мк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15640" y="2133360"/>
            <a:ext cx="69850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пускаемые с 1980 г. тиристоры имеют классифика­цию и систему обозначений, установленные ГОСТ 20859.1-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692360" y="1716120"/>
          <a:ext cx="48308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16120"/>
                    <a:ext cx="48308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203640" y="5229360"/>
            <a:ext cx="1727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138640" cy="2852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508464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ведем для диода типа AJ119А его некоторые пара­мет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нарастания импульса излучения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более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н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спада импульса излучения - не более 1500 нс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ое прямое напряжение при i более 3 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ый максимально допустимый прямой ток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t &lt; +85°С - 200 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а окружающей среды -60...+85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Система обозначени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вно существующая система обозначений предполагает использование двух или трех букв и трех цифр, например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6 или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331 и приве­дена в [3]. Первая буква указывает на материал, вторая (или вторая и третья) - на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руктивное исполнение: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единичный светодиод, ЛС - ряд или матрица светодиодов. Последующие цифры (а иногда буквы) обознача­ют номер разработки. Нельзя не признать такую систему несоверш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В настоящее время источники излучения обозначают­ся как частный случай индикаторов. Современные обозна­чения индикаторов содержат семь элементов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вый эле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буква И, обозначающая принадлеж­ность прибора к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косинтезирующим индикаторам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ЗС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тор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, обозначающая вид индикато­ра: Н - вакуумные накаливаемые;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акуумные элект­ролюминесцентные; Ж - жидкокристаллические; П - полупроводниковые; Э - электролюминесце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Трети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ующая отобража­емую информацию: Д - единичная; Ц - цифровая; В - буквенно-цифровая; Т - шкальная; М - мнемоническая; Г - граф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Четвер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сло, указывающее на поряд­ковый номер разработки: номер с 1-го по 69-й - индика­торы без встроенного управления; с 70-го по 99-й - со встроенным управ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уква, обозначающая принадлеж­ность индикатора к одной из классификационных групп приборов, изготовленных по общему технологическому процессу. Используются буквы русского алфавита от А до Я (не употребляются 3, О, Ы, Ь, Ъ, Ш, 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Шест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обь или произведение, характери­зующее информационное поле индикатора (кроме единич­ных индикаторов). Для одноразрядных и многоразрядных сегментных индикаторов - дробь, числитель которой число сегментов, знаменатель - число разрядов. Для од­норазрядных и многоразрядных матричных индикато­ров - дробь, числитель которой - число разрядов, зна­менатель - произведение числа элементов в строке на число элементов в столбце. Для матричных индикаторов без фиксированных знакомест - произведение числа элементов в строке на число элементов в столбце.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монических и шкальных индикаторов шестой элемент указывает число элементов индик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ксплуатации находятся тиристоры, система обозначений кото­рых регламентировалась стандартами (ГОСТ 10862-72, ГОСТ 14069-72 и др.), в настоящее время отмененными. В основу обозначений тиристоров положен буквенно-цифровой код, состоящий из четырех элементов (ГОСТ 10862-7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Сед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, обозначающая цвет свечения. Для одноцветных индикаторов: К - красный,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еле­ный, С - синий, Ж - желтый, Р - оранжевый, Г - го­лубой (для одиночных и полупроводниковых индикаторов всех видов). Для многоцветных индикаторов всех видов буква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Фоторезистор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торезистором называют полупроводниковый рези­стор, сопротивление которого чувствительно к электро­магнитному излучению в оптическом диапазоне спектра. Дадим схематическое изображение структуры фоторези­стора (рис. 1.124, а) и его условное графическое обозна­чение (рис. 1.124, 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771640" y="765000"/>
          <a:ext cx="3591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765000"/>
                    <a:ext cx="3591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635280" y="537372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торезисторы часто характеризуются зависимостью то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 освещенности Е при заданном напряжении на резисторе. Это так называемая люкс-амперная характери­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м такую характеристику для фоторезистора типа ФСК-Г7, который работает в видимой части спект­ра (рис. 1.12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340000" y="1341360"/>
          <a:ext cx="442908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341360"/>
                    <a:ext cx="44290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780000" y="5516640"/>
            <a:ext cx="1726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Часто используют следующие параметры фоторезисторов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2480" y="1412640"/>
            <a:ext cx="829152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инальное темновое (при отсутствии светового потока) сопротивление (для ФСК-Г7 это сопротив­ление равно 5 М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гральную чувствительность (чувствительность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 интегральной, так как ее определяют при освещении фоторезистора светом сложного спект­рального состава). Интегральная чувствительность (токовая чувствитель­ность к световому потоку) S определяется выражением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называемый фототок (это разность между то­ком при освещении и током при отсутствии освещен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фоторезистора ФСК-Г7 S- 0,7 А/лм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932360" y="4221000"/>
                <a:ext cx="5032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r>
                          <m:t xml:space="preserve">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03280" y="4653000"/>
                <a:ext cx="1620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258920" y="5300640"/>
                <a:ext cx="16200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Фотодио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смотрим устройства, основные физические процессы, характеристики и параметры фотоди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тройство и основные физические процессы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зобразим упрощенную структуру фотодиода (рис. 1.126, а) и его ус­ловное графическое обозначение (рис. 1.126, 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1280" y="508464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с. 1.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425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ческие процессы, протекающие в фотодиодах, носят обратный характер по отношению к процессам, протекающим в светодиодах. Основным физическим яв­лением в фотодиоде является генерация пар электрон- дырка в области перехода и в прилегающих к нему областях под действием изл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ерация пар электрон-дырка приводит к увеличению обратного тока диода при наличии обратного напряжения и к появлению напряже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 между анодом и катодом при разомкнутой цепи. Причем в соответствии со сделан­ным замечанием о разделении электронов и дырок (дырки переходят к аноду, а электроны - к катод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ервый элемент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(буква или цифра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ает исходный материал: Г, или 1, - германий; К, или 2, - кремний; А, или 3, - арсенид галл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торой элемент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(буква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416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прибора: Н - диодный тиристор (динистор); У - триодный тирис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ru-RU" sz="3800" spc="-1" strike="noStrike">
                <a:solidFill>
                  <a:srgbClr val="000000"/>
                </a:solidFill>
                <a:latin typeface="Times New Roman"/>
              </a:rPr>
              <a:t>рети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1 до 9), обозначающая порядковый номер модификации (разработки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Четвер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1 до 9), обозначающая классификационный размер корпуса прибор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0 до 5), обозначающая кон­структивное исполне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Шест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, равное значению максималь­но допустимого среднего тока в открытом состоянии для тиристоров, лавинных тиристоров, оптотиристоров, комбинированно выключаемых тиристоров, максимально допустимого импульсного тока для импульсных тиристоров, максимально допустимого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его тока для симисторов и импульсного запираемого тока для запираемых тиристоров. Для тиристоров-диодов шестой элемент состоит из дроби, в числителе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й - значение максимально допустимого среднего тока в открытом состоянии, а в знаменателе - значение максимально допустимого среднего тока в обратном проводящем состоя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9:25:23Z</dcterms:created>
  <dc:creator>student</dc:creator>
  <dc:description/>
  <dc:language>en-US</dc:language>
  <cp:lastModifiedBy>student</cp:lastModifiedBy>
  <dcterms:modified xsi:type="dcterms:W3CDTF">2012-04-20T05:52:12Z</dcterms:modified>
  <cp:revision>5</cp:revision>
  <dc:subject/>
  <dc:title>Классификация и система обозначений</dc:title>
</cp:coreProperties>
</file>